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077-76AA-4EF9-AB03-9806E8F8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95D-2365-4D16-883B-C7F5908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2FA-8EBC-4CDF-B29F-FD71DB73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882-FB77-4F79-923F-BD910DC7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6AE-9570-46F6-8BF5-2F8B3FF9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0BA-9F19-4D78-A8F2-007EB2AF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027-62D7-4F3E-BA98-CEC0013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AAA-407E-47BE-AA61-03A679C5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9D2-7EF4-478B-998D-709D438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6EA-DC57-4265-9B4A-B01606E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F6C-B4E0-4EFA-B37F-CA0FB1D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38A-E972-445C-BB9C-4D3976D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A0CE-BB07-4EEE-8B59-EA8DF8E59C3A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4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Dark Reaction - also known as the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vin Cyc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Glucose (C6H12O6)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absorbs carbon dioxide from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ir and combines it with hydroge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om the light reaction (ATP mad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uring light reaction provides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ergy for this proces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b. converts light energy to stored chemic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energy in the bonds of carbohydrate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molecules (sugars &amp; starch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occurs all day and for a short time into the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ark - as long as there is ATP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DP.H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. excess glucose (soluble) is convert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o an insoluble starch for storag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more stable) - mainly in the seed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V. Additional Information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When photosynthesis has stopped, plants use the process of cellular respiration to break down some of their stored carbohydrates for ener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Plants respire all day long but photosynthesis occurs at a faster rate than respi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Consequently, plants give off  oxygen during the day and carbon dioxide at nigh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8040"/>
                </a:solidFill>
                <a:latin typeface="Arial"/>
              </a:rPr>
              <a:t>The End!</a:t>
            </a:r>
            <a:endParaRPr b="0" lang="en-US" sz="7000" spc="-1" strike="noStrike">
              <a:solidFill>
                <a:srgbClr val="008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ccurs in chloroplasts of eukaryotic cel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urpose: To convert light energy into stor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emical energy (food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Energy is stored in the bonds of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rbohydrate molecules - sugar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arch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2. All life is dependent on the energ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xed by pla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Plants are called autotrophs o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ducers because they are able 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ke their own foo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- traps light energy in the 1st stage of photosynthesis without being permanently changed (catalyst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absorbs all wavelengths (colors) of light except green (and some yellow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Accessory Pig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amples: xanthophylls - yellows; carotene - orange; anthocyanin - 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Purpose: to absorb wavelengths of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that are missed by chlorophyl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324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In the fall, less light and low temperature cause chlorophyll to be damaged.  It breaks down and reveals the other pigments present in the leaf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I.  Factors that Affect Photosynthesis Rate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Carbon Dioxide Availab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nsity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lor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Wa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716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638680" y="50292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Reaction - occurs only in the presence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86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(Water Split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. oxygen goes out into the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tmospher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b. energy from broken bonds picked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up and stored as ATP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. hydrogen from water (H) attaches to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NADP (a carrier molecule) to prevent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it from reacting with anything els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30:06Z</dcterms:created>
  <dc:creator>Clayton Johns</dc:creator>
  <dc:description/>
  <dc:language>en-US</dc:language>
  <cp:lastModifiedBy>Clayton Johns</cp:lastModifiedBy>
  <dcterms:modified xsi:type="dcterms:W3CDTF">2008-11-11T01:49:15Z</dcterms:modified>
  <cp:revision>3</cp:revision>
  <dc:subject/>
  <dc:title>PHOTOSYNTHESIS</dc:title>
</cp:coreProperties>
</file>